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F3F-6578-4FF7-9043-BEA89A22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9C1-BEA6-4829-80C6-3898DFAC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482-9A6F-45A2-AD87-02399217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930-D488-4685-9086-CAC1DFAB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7F1B-C9F4-4E2D-832A-533C72CB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8505-57FA-4374-A541-E3CDDC21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78E1-3541-4AAE-8662-34F2E3C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19B-A963-4640-AE36-01D73655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99BD-67A5-430F-BAB6-BB653A8C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2279-0C5F-4A8C-967E-DE357A72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6DA4-9B7E-40E7-AB37-5865FF71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7DA-95CF-4805-80DE-0AA129FC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E61B-1820-4922-8056-ECFAD271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F93F-4135-4E80-BE98-FA78CFE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F89F-000B-46B8-8B0D-AA04AAB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E364-4482-4B46-81A7-9C507993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1D0E-634E-43CD-B56C-0A3E3389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EA0-4F31-4C27-9FE5-F6DF8EB3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6A0-81AA-421D-88B2-2ED41417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2E2-9135-4C61-A75C-272B26C5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9BC-38D8-4D67-8E80-4A916D1F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103-EB0B-478D-BD34-24A91B1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638-F0BD-4258-9025-7DA3D11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ABD-061E-4174-B03B-98ADD30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A03-ECF3-46C4-A777-3748A68677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39F5-D1FD-4AAA-9D9F-D17171E16B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Me llamo _______ Clase 6NH(602) </a:t>
            </a:r>
            <a:br>
              <a:rPr sz="3600"/>
            </a:b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La fecha es el 18 de octubre de 201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Propósito # 12: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Llevas uniforme a la escuel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omic Sans MS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p. R11 (1-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mbra los siguientes articulos de rop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               3.                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6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0120" y="20574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1528920" cy="152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857680" y="2190600"/>
            <a:ext cx="1866600" cy="161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124080" y="5019840"/>
            <a:ext cx="1762200" cy="1761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33520" y="4800600"/>
            <a:ext cx="1523880" cy="1609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848720" y="4419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29200" y="17524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05120" y="2819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84012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8098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65760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3581280"/>
            <a:ext cx="1524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3104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éte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191120" y="6553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23720" y="57913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61261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62784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5410080"/>
            <a:ext cx="2133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os 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5943600"/>
            <a:ext cx="1676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de vest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543800" y="5562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619760" y="6324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1845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m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cor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191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manga lar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s Vocabula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mbra las siguientes cosa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              3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109960" cy="1071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799240" y="182880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981840" y="1828800"/>
            <a:ext cx="117144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914400" y="3886200"/>
            <a:ext cx="1824120" cy="1415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505320" y="3657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162840" y="3733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0120" y="5257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895480"/>
            <a:ext cx="1447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us esco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12408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27672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leg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297180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rofesor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3352680"/>
            <a:ext cx="1981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aestro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25780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lum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571500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tudi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54100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a t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5105520"/>
            <a:ext cx="2286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mpleado/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5638680"/>
            <a:ext cx="2286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l/la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4800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istorieta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. R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a p. R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36232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rea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43:26Z</dcterms:created>
  <dc:creator>Helen Zumaeta</dc:creator>
  <dc:description/>
  <dc:language>en-US</dc:language>
  <cp:lastModifiedBy>Helen Zumaeta</cp:lastModifiedBy>
  <dcterms:modified xsi:type="dcterms:W3CDTF">2012-10-17T16:03:28Z</dcterms:modified>
  <cp:revision>3</cp:revision>
  <dc:subject/>
  <dc:title>Me llamo ________         Clase 6NH La fecha es el 13 de febrero de 2012</dc:title>
</cp:coreProperties>
</file>